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3F5B-13A3-489C-A80C-8B095446D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89E0-01A7-40B7-A08C-AEA790183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6252-369B-4A2C-9236-9B15F896A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7C8A-1F43-4313-B759-1838816C1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54178-4758-45AC-97BE-6C3157891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1A8F8-55C0-4C34-A7E6-7F8ACAD8B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884A1-F341-4398-865E-3C13DD987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1F269-5928-477C-896E-F21D507C7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D2CDE-86DE-430D-8CE4-E3EC65DD2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C3103-AD6B-4A96-94BC-1649B2532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A77AD-1A45-4A3F-BDE6-ECCB35F8A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1B85-F395-48CB-A3D3-0236775EE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2B583-3D7F-4F0D-AEB0-9CBB3611A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FC168-4F3D-4636-BB85-E4D4D1961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0E0D1-4A84-4E62-BF25-B2D3FB77E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8D7A9-A65A-4878-9B68-1D4BEC64C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D4C6D-78C6-425A-A621-50A045C03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1D94-9FB6-4436-922A-228089E70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D946-B930-4256-9E51-34E27ACDD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BEC3-B1E7-427A-B9AC-A23FC290A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533B-1035-4A42-BC66-838982F67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EB8C-904C-4E96-850A-E414414D9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78A5-F5C2-458A-A8A2-3AE0D327C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5605-B11C-47EE-BDA2-6062012ED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08EF8-D7C7-46AA-B1D7-C3EF081672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4540E-5F9A-4EFA-B310-52F7EDF79D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장 정서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-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행동장애아 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1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정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 시행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서장애에 자폐를 포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체 정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장애 아동협회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자폐시민협회의 자폐증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증과 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등에 대한 특수교육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원인 및 출현율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서와 행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각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0.55%, 0.15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생물학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손상과 뇌기능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가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3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분류체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열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으로 부적절하거나 미숙한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 위축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공격적인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국 정신의학회의 정신장애진단 및 통계편람</a:t>
            </a: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(DSM-IV)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전반적 발달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주의력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결핍 및 파괴적 행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유아기 또는 초기 아동기 급식 및 섭식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틱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배설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리불안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선택적 함묵증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애착장애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운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통계적 분류체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외부지향성 및 내부지향성 행동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4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 정서행동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적응행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업성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폐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극 과잉선택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낮은 동기유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기자극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강화와 결과에 대한 독특한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5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진단평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선별검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검목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checklist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투사검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접 관찰과 행동 측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 및 중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계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 행동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물 치료와 교육의 병행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 하세요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3" name="Picture 4" descr="MCj04042630000[1]"/>
          <p:cNvPicPr/>
          <p:nvPr/>
        </p:nvPicPr>
        <p:blipFill>
          <a:blip r:embed="rId1"/>
          <a:stretch/>
        </p:blipFill>
        <p:spPr>
          <a:xfrm>
            <a:off x="2627280" y="1844640"/>
            <a:ext cx="43927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15:10:29Z</dcterms:created>
  <dc:creator>.</dc:creator>
  <dc:description/>
  <dc:language>en-US</dc:language>
  <cp:lastModifiedBy>sec</cp:lastModifiedBy>
  <dcterms:modified xsi:type="dcterms:W3CDTF">2010-01-11T00:15:28Z</dcterms:modified>
  <cp:revision>8</cp:revision>
  <dc:subject/>
  <dc:title>제 6장 사회교과교육</dc:title>
</cp:coreProperties>
</file>